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A9A3-7F02-423E-AC56-81C6E04DB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446-B7D2-49BD-97EC-58C762BC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517-48A4-4A35-A14E-3C2FDF1C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FE9-09A1-44FF-9EAC-7EC6FF62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5E8-EDAD-498D-A1AA-87C4A1D8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DA1D-53C4-48D5-AAB0-D2E99274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49B-947E-4658-827B-888715FE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72F-CA6D-427F-A52C-EC530A48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7F7-C827-455F-AA1F-572D9FF8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8D9-1138-4BF1-9461-370C0D3E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0BC-2B25-45D4-85B0-72591BEA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A66-36C7-499C-A982-158A6601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AD7-1437-4765-92DF-09AAD1AE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8A2C-4B93-4F42-BAFF-D3FF8B305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276720" cy="20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362320" cy="230832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33520" y="5181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59720" y="4724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47120" y="1179360"/>
            <a:ext cx="81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550960" cy="327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4"/>
          <a:stretch/>
        </p:blipFill>
        <p:spPr>
          <a:xfrm>
            <a:off x="3200400" y="4800600"/>
            <a:ext cx="2057400" cy="1490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2975400" y="434340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3048120" y="2286000"/>
            <a:ext cx="2286000" cy="145908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4343400" cy="422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4955400" y="57150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00840" y="1179360"/>
            <a:ext cx="77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3"/>
          <a:stretch/>
        </p:blipFill>
        <p:spPr>
          <a:xfrm>
            <a:off x="6248520" y="23623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4"/>
          <a:stretch/>
        </p:blipFill>
        <p:spPr>
          <a:xfrm>
            <a:off x="6858000" y="4952880"/>
            <a:ext cx="2057400" cy="134172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019920" y="3048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5791320" y="5029200"/>
            <a:ext cx="23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58040" y="1219320"/>
            <a:ext cx="88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2971800" cy="229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1295280" y="4800600"/>
            <a:ext cx="2210040" cy="1566720"/>
          </a:xfrm>
          <a:prstGeom prst="rect">
            <a:avLst/>
          </a:prstGeom>
          <a:ln w="0">
            <a:noFill/>
          </a:ln>
        </p:spPr>
      </p:pic>
      <p:sp>
        <p:nvSpPr>
          <p:cNvPr id="14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2286000" cy="23461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232560" y="61722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00200" cy="125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6781680" y="228600"/>
            <a:ext cx="2114640" cy="14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3124080" y="4724280"/>
            <a:ext cx="2347920" cy="176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5867280" y="3733920"/>
            <a:ext cx="2772000" cy="184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292680" y="20937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are sometime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ty snowb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"icy mudball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3264120" y="369396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778360" y="5599080"/>
            <a:ext cx="33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6172200" y="1295280"/>
            <a:ext cx="2181240" cy="171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6631920" y="31240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879080" y="53341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4"/>
          <a:stretch/>
        </p:blipFill>
        <p:spPr>
          <a:xfrm>
            <a:off x="6934320" y="3733920"/>
            <a:ext cx="1838160" cy="1811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7378920" y="55227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3581640" cy="3687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791320" y="327672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114800" y="3352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227880" y="1523880"/>
            <a:ext cx="89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269960" y="46483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581280" cy="399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80880" y="16002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241760" y="1752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114800" y="2362320"/>
            <a:ext cx="183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190368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365760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243504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2898720" y="1600200"/>
            <a:ext cx="285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6019920" y="4419720"/>
            <a:ext cx="2666880" cy="192708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1362240" cy="1257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800600" y="2133720"/>
            <a:ext cx="17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5029200" y="4876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802760" y="60199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6629400" y="1828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308160" y="1066680"/>
            <a:ext cx="85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404400" y="3733920"/>
            <a:ext cx="24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"/>
          <p:cNvPicPr/>
          <p:nvPr/>
        </p:nvPicPr>
        <p:blipFill>
          <a:blip r:embed="rId5"/>
          <a:stretch/>
        </p:blipFill>
        <p:spPr>
          <a:xfrm>
            <a:off x="6781680" y="4952880"/>
            <a:ext cx="1724040" cy="17240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28600" y="5029200"/>
            <a:ext cx="2743200" cy="154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6477120" y="4876920"/>
            <a:ext cx="2523960" cy="1839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71520" y="1255680"/>
            <a:ext cx="79686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nor plan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3429000" y="2971800"/>
            <a:ext cx="2666880" cy="206532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741840" cy="384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2438280" cy="1616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4499640" y="63244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89760" y="1219320"/>
            <a:ext cx="79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336280" y="38098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3657600" cy="124128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190760" cy="399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1571760" cy="115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57320" y="1066680"/>
            <a:ext cx="883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1680" y="2209680"/>
            <a:ext cx="1952640" cy="146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6400800" y="3809880"/>
            <a:ext cx="2209680" cy="1743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4719240" y="304812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930000" y="1752480"/>
            <a:ext cx="175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718880" y="5562720"/>
            <a:ext cx="4054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19:56:38Z</dcterms:created>
  <dc:creator>justin</dc:creator>
  <dc:description/>
  <dc:language>en-US</dc:language>
  <cp:lastModifiedBy>LEGION</cp:lastModifiedBy>
  <dcterms:modified xsi:type="dcterms:W3CDTF">2018-03-22T09:53:36Z</dcterms:modified>
  <cp:revision>11</cp:revision>
  <dc:subject/>
  <dc:title>Slide 1</dc:title>
</cp:coreProperties>
</file>